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NEWPhysical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8" descr="help button"/>
          <p:cNvPicPr/>
          <p:nvPr/>
        </p:nvPicPr>
        <p:blipFill>
          <a:blip r:embed="rId3"/>
          <a:stretch/>
        </p:blipFill>
        <p:spPr>
          <a:xfrm>
            <a:off x="457200" y="62928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" descr="chapter resources"/>
          <p:cNvPicPr/>
          <p:nvPr/>
        </p:nvPicPr>
        <p:blipFill>
          <a:blip r:embed="rId4"/>
          <a:stretch/>
        </p:blipFill>
        <p:spPr>
          <a:xfrm>
            <a:off x="1682640" y="6372360"/>
            <a:ext cx="1676520" cy="30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1" descr="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4038480" y="6343560"/>
            <a:ext cx="300240" cy="3049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2" descr="home"/>
          <p:cNvPicPr/>
          <p:nvPr/>
        </p:nvPicPr>
        <p:blipFill>
          <a:blip r:embed="rId6"/>
          <a:stretch/>
        </p:blipFill>
        <p:spPr>
          <a:xfrm>
            <a:off x="4414680" y="634536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3" descr="next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795920" y="6343560"/>
            <a:ext cx="304560" cy="3002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5" descr="end"/>
          <p:cNvPicPr/>
          <p:nvPr/>
        </p:nvPicPr>
        <p:blipFill>
          <a:blip r:embed="rId8"/>
          <a:stretch/>
        </p:blipFill>
        <p:spPr>
          <a:xfrm>
            <a:off x="8215200" y="6286680"/>
            <a:ext cx="486000" cy="44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7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8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9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1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0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1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2.wav" TargetMode="External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708_03.wav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2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3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1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4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5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08_06.wa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6" descr="GPE_SE-smaller"/>
          <p:cNvPicPr/>
          <p:nvPr/>
        </p:nvPicPr>
        <p:blipFill>
          <a:blip r:embed="rId1"/>
          <a:stretch/>
        </p:blipFill>
        <p:spPr>
          <a:xfrm>
            <a:off x="2666880" y="685800"/>
            <a:ext cx="4024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82680"/>
            <a:ext cx="35812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cific heat of a material can be measured using a device called a calorime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33520" y="3660840"/>
            <a:ext cx="3657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calorimeter, a heated sample transfers thermal energy to a known mass of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596960" y="633240"/>
            <a:ext cx="4978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asuring 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1469880"/>
            <a:ext cx="3429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ermal energy released by the sample is equal to the thermal energy absorbed by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p259 figure 4"/>
          <p:cNvPicPr/>
          <p:nvPr/>
        </p:nvPicPr>
        <p:blipFill>
          <a:blip r:embed="rId1"/>
          <a:stretch/>
        </p:blipFill>
        <p:spPr>
          <a:xfrm>
            <a:off x="4191120" y="1447920"/>
            <a:ext cx="4538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93640" y="1554120"/>
            <a:ext cx="77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is temperature related to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09480" y="11635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is a measure of the average kinetic energy of the particles in an object or material. As the temperature increases, the average speed of the particles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760040" y="65412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0" descr="p256 figure 2"/>
          <p:cNvPicPr/>
          <p:nvPr/>
        </p:nvPicPr>
        <p:blipFill>
          <a:blip r:embed="rId1"/>
          <a:stretch/>
        </p:blipFill>
        <p:spPr>
          <a:xfrm>
            <a:off x="2133720" y="3168720"/>
            <a:ext cx="4876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93640" y="152388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ermal energy differ from kinetic energy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760040" y="337644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93640" y="414504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 is the sum of the kinetic and potential energy of all the particles in an objec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heat that is needed to raise the temperature of 1 kg of a material by 1º C is called the __________ of the materi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00120" y="3368520"/>
            <a:ext cx="412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specific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93640" y="154296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Specific heat is measured in joules/kilogram °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33520" y="2003400"/>
            <a:ext cx="37335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cles of a solid are packed closely together and are constantly vibrating in pl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596240" y="633240"/>
            <a:ext cx="4408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our States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33520" y="4518000"/>
            <a:ext cx="8076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ons between particles are strong and solids have a fixed volume and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620720" y="131904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15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14302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o cause particles to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95160" y="633240"/>
            <a:ext cx="2606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Liquid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3984480"/>
            <a:ext cx="37335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have a definite volume, but not a definite sha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3520" y="1469880"/>
            <a:ext cx="38098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 the forces between particles are so weak that the particles no longer cling toge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595520" y="633240"/>
            <a:ext cx="204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as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520" y="400356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do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9" descr="p260 figure 5 square"/>
          <p:cNvPicPr/>
          <p:nvPr/>
        </p:nvPicPr>
        <p:blipFill>
          <a:blip r:embed="rId1"/>
          <a:stretch/>
        </p:blipFill>
        <p:spPr>
          <a:xfrm>
            <a:off x="4495680" y="1509840"/>
            <a:ext cx="40388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3266280" y="0"/>
            <a:ext cx="2585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676520" y="6094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pter: Heat and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03240" y="3306600"/>
            <a:ext cx="64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2: 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1803240" y="19810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1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1800360" y="4205160"/>
            <a:ext cx="68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3:  Transferr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1800360" y="4983120"/>
            <a:ext cx="64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bfb"/>
                </a:solidFill>
                <a:latin typeface="Times New Roman"/>
              </a:rPr>
              <a:t>Section 4:  Using Thermal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13748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 state of matter in the universe is the plasma sta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95520" y="633240"/>
            <a:ext cx="2707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lasma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33520" y="263196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Plas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tter consisting of positively and negatively charged particles and does not have a definite shape or volu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97680" y="36036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33520" y="2308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at which a solid begins to melt is its melting poi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94440" y="633240"/>
            <a:ext cx="337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ing St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33520" y="3470400"/>
            <a:ext cx="746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fu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602720" y="1471680"/>
            <a:ext cx="1703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e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54280" y="487836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3520" y="14479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fusion is also the energy released when a liquid freez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596600" y="633240"/>
            <a:ext cx="1879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Freez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533520" y="26892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ractive forces are strong enough that the particles form an ordered arrang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33520" y="144792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occurs as liquid changes into a g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95520" y="633240"/>
            <a:ext cx="274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Vapor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2689200"/>
            <a:ext cx="7086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porization that occurs at the surface of a liquid is called eva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0280" y="3908520"/>
            <a:ext cx="670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poration causes the temperature of the liquid to de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33520" y="1432080"/>
            <a:ext cx="8076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iling point of a liquid is the temperature at which the pressure of the vapor in the liquid is equal to the external pressure acting on its surf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595880" y="633240"/>
            <a:ext cx="157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i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347040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 of vap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amount of energy required for 1 kg of the liquid at its boiling point to become a g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5400" y="44481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285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t of vaporization is also the amount of energy released during conden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2346480"/>
            <a:ext cx="3047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graph shows the temperature change of water as thermal energy is ad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33520" y="1413000"/>
            <a:ext cx="693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verage kinetic energy of the water molecules doesn’t chan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33520" y="2631960"/>
            <a:ext cx="3429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emperature remains constant during mel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9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94440" y="633240"/>
            <a:ext cx="2875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p263 graph"/>
          <p:cNvPicPr/>
          <p:nvPr/>
        </p:nvPicPr>
        <p:blipFill>
          <a:blip r:embed="rId1"/>
          <a:stretch/>
        </p:blipFill>
        <p:spPr>
          <a:xfrm>
            <a:off x="3962520" y="2587680"/>
            <a:ext cx="464796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1"/>
          <p:cNvGrpSpPr/>
          <p:nvPr/>
        </p:nvGrpSpPr>
        <p:grpSpPr>
          <a:xfrm>
            <a:off x="533520" y="1459080"/>
            <a:ext cx="6858000" cy="2312640"/>
            <a:chOff x="533520" y="1459080"/>
            <a:chExt cx="6858000" cy="2312640"/>
          </a:xfrm>
        </p:grpSpPr>
        <p:sp>
          <p:nvSpPr>
            <p:cNvPr id="193" name="Text Box 7"/>
            <p:cNvSpPr/>
            <p:nvPr/>
          </p:nvSpPr>
          <p:spPr>
            <a:xfrm>
              <a:off x="533520" y="2362320"/>
              <a:ext cx="342900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28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f the gas increases as energy is added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533520" y="1459080"/>
              <a:ext cx="68580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fter the liquid water has changed completely into a gas, the temperat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195732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d separation between the particles results in the expansion of the object and the size of the object increa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595160" y="633240"/>
            <a:ext cx="405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3520" y="3470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material cools, the particles in the material move more slowly and become closer toge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94440" y="1319040"/>
            <a:ext cx="6910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Thermal Expansion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424160"/>
            <a:ext cx="6248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s between the particles in liquids are weaker than the forces between the particles in a sol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94800" y="633240"/>
            <a:ext cx="6163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Liqui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89160"/>
            <a:ext cx="6705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temperature increase usually causes liquids to expand much more than sol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054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056"/>
          <p:cNvSpPr/>
          <p:nvPr/>
        </p:nvSpPr>
        <p:spPr>
          <a:xfrm>
            <a:off x="533520" y="11430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tion of the particles in matter is described b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inetic the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atte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2057"/>
          <p:cNvSpPr/>
          <p:nvPr/>
        </p:nvSpPr>
        <p:spPr>
          <a:xfrm>
            <a:off x="533520" y="2057400"/>
            <a:ext cx="32004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is composed of particles that are atoms, molecules, or ions that always are in random mo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058"/>
          <p:cNvSpPr/>
          <p:nvPr/>
        </p:nvSpPr>
        <p:spPr>
          <a:xfrm>
            <a:off x="1597320" y="633240"/>
            <a:ext cx="5117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Kinetic Theory of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059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206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2600" y="1685880"/>
            <a:ext cx="393480" cy="36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64" descr="MAC OSX sm button"/>
          <p:cNvPicPr/>
          <p:nvPr/>
        </p:nvPicPr>
        <p:blipFill>
          <a:blip r:embed="rId3"/>
          <a:stretch/>
        </p:blipFill>
        <p:spPr>
          <a:xfrm>
            <a:off x="8077320" y="2050920"/>
            <a:ext cx="672840" cy="3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cmFlash320"/>
          <p:cNvGraphicFramePr/>
          <p:nvPr/>
        </p:nvGraphicFramePr>
        <p:xfrm>
          <a:off x="3809880" y="2438280"/>
          <a:ext cx="4572000" cy="339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cmFlash3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438280"/>
                    <a:ext cx="4572000" cy="33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404160" y="0"/>
            <a:ext cx="23356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tates of 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3520" y="1413000"/>
            <a:ext cx="6933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gas, the forces between particles are much weaker than they are in liqui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595160" y="63324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xpansion of Ga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3520" y="30700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expand even more than liquids for the same increase 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3640" y="1447920"/>
            <a:ext cx="82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 is a state of matter consisting of positively and negatively charged particles that exists where the temperature is extremely high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600120" y="3398760"/>
            <a:ext cx="267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Plas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Plasma is found in the Sun, stars, lightning bolts and neon ligh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758240" y="831960"/>
            <a:ext cx="2047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593640" y="15541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__________ materials have a specific type of geometric arran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598320" y="3276720"/>
            <a:ext cx="252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gase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in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sol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09480" y="1722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The particles in most solids align themselves in ordered geometric patter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760040" y="9144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3640" y="1447920"/>
            <a:ext cx="794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energy required to change 1 kg of a substance from a solid to a liquid at its melting point is known as the _______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98320" y="3475080"/>
            <a:ext cx="4507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heat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heat of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heat of mel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heat of vap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3640" y="155412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rrect answer is B. Heat of fusion causes an ice cube to become liquid wa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ays to Transfer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520" y="223524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ansfer of thermal energy between colliding particles i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du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11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0480" y="2781360"/>
            <a:ext cx="393840" cy="3682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533520" y="3394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etic energy is transferred when these faster-moving atoms collide with slower-moving partic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1568520" y="1471680"/>
            <a:ext cx="277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Conduc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3520" y="14731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at which thermal energy is transferred depends on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3520" y="263196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is transferred easily is called a thermal condu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520" y="430848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s are poorer thermal conductors than solids or liqui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33520" y="1488960"/>
            <a:ext cx="74674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nve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thermal energy in a fluid by the movement of fluid from place to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3520" y="31273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uid expands as its temperature in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3520" y="3908520"/>
            <a:ext cx="800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nsity of the fluid therefore decre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30800" y="2471760"/>
            <a:ext cx="3934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2"/>
          <p:cNvSpPr/>
          <p:nvPr/>
        </p:nvSpPr>
        <p:spPr>
          <a:xfrm>
            <a:off x="533520" y="137484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ubstance is a measure of the average kinetic energy of its particl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533520" y="3051000"/>
            <a:ext cx="71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I unit for temperature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Kelv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K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596240" y="633240"/>
            <a:ext cx="27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23446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MiddleSchoolAudi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35160" y="35812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20" y="1488960"/>
            <a:ext cx="6172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er water is less dense and is forced upward by the sinking cooler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533520" y="31654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arm water transfers thermal energy to the cooler water aroun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533520" y="1469880"/>
            <a:ext cx="5257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warm water cools, it becomes denser than the surrounding water and sin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533520" y="308916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ising and sinking water forms a convection curr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9" descr="p267 figure 14"/>
          <p:cNvPicPr/>
          <p:nvPr/>
        </p:nvPicPr>
        <p:blipFill>
          <a:blip r:embed="rId1"/>
          <a:stretch/>
        </p:blipFill>
        <p:spPr>
          <a:xfrm>
            <a:off x="5794200" y="2438280"/>
            <a:ext cx="2892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33520" y="1488960"/>
            <a:ext cx="655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transfer of energy by electromagnetic wa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33520" y="27082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ation can pass through solids, liquids, and gases, but the transfer of energy by radiation is most important in g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03688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1508040"/>
            <a:ext cx="5333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ation strikes a material, some energy is absorbed, some is reflected, and some may be transmitted through the materi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p269 figure 16"/>
          <p:cNvPicPr/>
          <p:nvPr/>
        </p:nvPicPr>
        <p:blipFill>
          <a:blip r:embed="rId1"/>
          <a:stretch/>
        </p:blipFill>
        <p:spPr>
          <a:xfrm>
            <a:off x="4876920" y="723960"/>
            <a:ext cx="3457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568520" y="685800"/>
            <a:ext cx="7118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Insu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534040" y="0"/>
            <a:ext cx="4075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ransferr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33520" y="1508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terial in which thermal energy moves slowly is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insul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26892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erials that are good conductors of thermal energy, such as metals are poor thermal insul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6280" y="204804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593640" y="1554120"/>
            <a:ext cx="74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cribe the difference between conduction and convec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09480" y="1295280"/>
            <a:ext cx="419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on transfers thermal energy without transferring matter. In convection, the more energetic particles move from one place to anoth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760040" y="68580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10" descr="p267 figure 14"/>
          <p:cNvPicPr/>
          <p:nvPr/>
        </p:nvPicPr>
        <p:blipFill>
          <a:blip r:embed="rId1"/>
          <a:stretch/>
        </p:blipFill>
        <p:spPr>
          <a:xfrm>
            <a:off x="5057640" y="685800"/>
            <a:ext cx="341316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1"/>
          <p:cNvSpPr/>
          <p:nvPr/>
        </p:nvSpPr>
        <p:spPr>
          <a:xfrm>
            <a:off x="5029200" y="478944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currents result when heated fluid rises and cooler fluid sink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3640" y="1447920"/>
            <a:ext cx="672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 is the transfer of energy by electromagnetic w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1760040" y="33004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93640" y="396252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ansfer of energy by electromagnetic waves is radiation. Radiation is how Earth gets heat from the S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93640" y="1447920"/>
            <a:ext cx="73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is the least effective insulato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598320" y="3124080"/>
            <a:ext cx="275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 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 fiberg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 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 w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593640" y="1542960"/>
            <a:ext cx="786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Metals are good conductors of heat. And heat flows more rapidly in th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omparison of Temperature Scales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899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enhe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Celsi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Kelv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.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.p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 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45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-27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egree measure of Celsius is equal to one degree measure of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570320" y="685800"/>
            <a:ext cx="701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First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0769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rding to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irst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 increase in thermal energy of a system equals the work done on the system plus the thermal energy transferr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33520" y="3479760"/>
            <a:ext cx="396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energy of a system equals the energy added to the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63760" y="30765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p274 figure 20"/>
          <p:cNvPicPr/>
          <p:nvPr/>
        </p:nvPicPr>
        <p:blipFill>
          <a:blip r:embed="rId3"/>
          <a:stretch/>
        </p:blipFill>
        <p:spPr>
          <a:xfrm>
            <a:off x="4794120" y="3048120"/>
            <a:ext cx="290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568880" y="685800"/>
            <a:ext cx="52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losed and Open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14889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ystem is an open system if thermal energy flows across the boundary or if work is done across the bounda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33520" y="3165480"/>
            <a:ext cx="7086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 thermal energy flows across the boundary and no outside work is done, the system is a closed syste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Second Law of Thermodynam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533520" y="2022480"/>
            <a:ext cx="7391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econd law of thermodynamic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tes it is impossible for thermal energy to flow from a cool object to a warmer object unless work is don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6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5480" y="3429000"/>
            <a:ext cx="3938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42960" y="685800"/>
            <a:ext cx="561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erting Thermal Energy to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2022480"/>
            <a:ext cx="6629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evice or process can convert thermal energy completely into wor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966760" y="0"/>
            <a:ext cx="32104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Using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162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m of the kinetic and potential energies of all the particles in an object is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thermal energ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objec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520" y="2701800"/>
            <a:ext cx="35049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rease in an object’s speed doesn’t affect the random motion of its particles, so it doesn’t affect its thermal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596240" y="633240"/>
            <a:ext cx="3417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8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218916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256 figure 2"/>
          <p:cNvPicPr/>
          <p:nvPr/>
        </p:nvPicPr>
        <p:blipFill>
          <a:blip r:embed="rId3"/>
          <a:stretch/>
        </p:blipFill>
        <p:spPr>
          <a:xfrm>
            <a:off x="4114800" y="3016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rmal energy that flows from something at a higher temperature to something at a lower temperatur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30700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is a form of energy, so it is measured in jou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95880" y="633240"/>
            <a:ext cx="111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16800" y="2427120"/>
            <a:ext cx="39348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290600"/>
            <a:ext cx="4572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mount of thermal energy needed to raise the temperature of 1 kg of some material by 1°C is called 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ecific he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materia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520" y="4098960"/>
            <a:ext cx="4114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heat is measured in joules per kilogram per degree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596600" y="633240"/>
            <a:ext cx="2756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pecific He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5812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p257 table 1"/>
          <p:cNvPicPr/>
          <p:nvPr/>
        </p:nvPicPr>
        <p:blipFill>
          <a:blip r:embed="rId3"/>
          <a:stretch/>
        </p:blipFill>
        <p:spPr>
          <a:xfrm>
            <a:off x="5143680" y="1600200"/>
            <a:ext cx="361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69880" y="39852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595520" y="633240"/>
            <a:ext cx="5705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hanges in Thermal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186280" y="0"/>
            <a:ext cx="47710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Temperature and Therm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eq 6"/>
          <p:cNvPicPr/>
          <p:nvPr/>
        </p:nvPicPr>
        <p:blipFill>
          <a:blip r:embed="rId1"/>
          <a:stretch/>
        </p:blipFill>
        <p:spPr>
          <a:xfrm>
            <a:off x="457200" y="1771560"/>
            <a:ext cx="82296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Lee, Charles - HS Chemistry/Physics Teacher</cp:lastModifiedBy>
  <dcterms:modified xsi:type="dcterms:W3CDTF">2015-10-29T15:14:43Z</dcterms:modified>
  <cp:revision>505</cp:revision>
  <dc:subject/>
  <dc:title>Slide 1</dc:title>
</cp:coreProperties>
</file>